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C550-725F-465D-806F-803D9239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D002-2909-4C48-A532-DC299A8D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BDB-AF5F-413E-9D24-BFEDD3C5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9EE5-CE38-4819-A182-BA94C18F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1CB-B0D7-4616-98A4-9A408DCC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F64-6072-453A-8026-FCC2E110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B30-7AE0-49A8-9B0E-C11424E3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1A1-20B3-46FB-9D0E-058D52A1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FB6-0BF8-4C72-8BD4-A4CE9561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6E6-471A-4BFF-99A4-80900625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E7D-5311-4AB1-8ABD-50086DEE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726-D90C-4A1C-AA9D-E3723E8C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29E2-B1A3-4934-A86B-52FE1A660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3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5238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Proper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roduce a change in the composition (make up) of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228600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n only observ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se changes when substances in a sample of matter are changing into different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200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 examples of chemical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657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How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flammable a material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4038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lammability –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materials ability to burn in presence of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48769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good, or 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eactivity = how readily (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asy) a substance combines chemically with other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1600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xygen – high reactivity; nitrogen – lo re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2096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ognizing Chemic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590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hemical chang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ake place when a substance </a:t>
            </a:r>
            <a:r>
              <a:rPr b="1" lang="en-US" sz="2400" spc="-1" strike="noStrike" u="sng">
                <a:solidFill>
                  <a:srgbClr val="996600"/>
                </a:solidFill>
                <a:uFillTx/>
                <a:latin typeface="Times New Roman"/>
              </a:rPr>
              <a:t>reacts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 and forms a </a:t>
            </a:r>
            <a:r>
              <a:rPr b="1" lang="en-US" sz="2400" spc="-1" strike="noStrike" u="sng">
                <a:solidFill>
                  <a:srgbClr val="996600"/>
                </a:solidFill>
                <a:uFillTx/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505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vidence for chem.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0384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Change in color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X: copper roof on house (figure 19, pg. 5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87692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roduction of a gas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Ex: vinegar and baking soda </a:t>
            </a:r>
            <a:r>
              <a:rPr b="0" lang="en-US" sz="2400" spc="-1" strike="noStrike">
                <a:solidFill>
                  <a:srgbClr val="9966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9966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ormation of a precipitate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 solid which form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nd separates from a liquid EX: acid and mil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286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ook a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 composition (make-up), is there a change of the matter into something ne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297180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?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?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5238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tell if a change is physical or chem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Unknown substance cannot be broken down into a simpler substance, 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CorShape1"/>
          <p:cNvSpPr/>
          <p:nvPr/>
        </p:nvSpPr>
        <p:spPr>
          <a:xfrm>
            <a:off x="223920" y="398304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l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of one kind of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2 an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a heterogenous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in a swimming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a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jar of mixed n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inless st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orShape1"/>
          <p:cNvSpPr/>
          <p:nvPr/>
        </p:nvSpPr>
        <p:spPr>
          <a:xfrm>
            <a:off x="254160" y="3182760"/>
            <a:ext cx="25380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NOT a pure subst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>
            <a:off x="223920" y="17431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terial that is malleable and conducts electricity is most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CorShape1"/>
          <p:cNvSpPr/>
          <p:nvPr/>
        </p:nvSpPr>
        <p:spPr>
          <a:xfrm>
            <a:off x="2590920" y="23623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 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a physical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609480" y="1841400"/>
          <a:ext cx="8661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41400"/>
                    <a:ext cx="8661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wing a piece of wood in 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ning a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st forming on an iron 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pper roof changing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orShape1"/>
          <p:cNvSpPr/>
          <p:nvPr/>
        </p:nvSpPr>
        <p:spPr>
          <a:xfrm>
            <a:off x="1163520" y="2124000"/>
            <a:ext cx="29232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evidence of a chemical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TPChart"/>
          <p:cNvGraphicFramePr/>
          <p:nvPr/>
        </p:nvGraphicFramePr>
        <p:xfrm>
          <a:off x="609480" y="1828800"/>
          <a:ext cx="8661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661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CorShape1"/>
          <p:cNvSpPr/>
          <p:nvPr/>
        </p:nvSpPr>
        <p:spPr>
          <a:xfrm>
            <a:off x="990720" y="4167360"/>
            <a:ext cx="507960" cy="5079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n changes color when h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 bubbles form in boiling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ls of wax form when melted wax is poured into ice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as forms when vinegar and baking soda are mix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8:05:59Z</dcterms:created>
  <dc:creator>Farwell Area Schools</dc:creator>
  <dc:description/>
  <dc:language>en-US</dc:language>
  <cp:lastModifiedBy>Farwell Area Schools</cp:lastModifiedBy>
  <dcterms:modified xsi:type="dcterms:W3CDTF">2009-01-19T20:07:45Z</dcterms:modified>
  <cp:revision>15</cp:revision>
  <dc:subject/>
  <dc:title>Note Guide 3-3</dc:title>
</cp:coreProperties>
</file>